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7.gif" ContentType="image/gif"/>
  <Override PartName="/ppt/media/image16.gif" ContentType="image/gif"/>
  <Override PartName="/ppt/media/image15.gif" ContentType="image/gif"/>
  <Override PartName="/ppt/media/image14.png" ContentType="image/png"/>
  <Override PartName="/ppt/media/image1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8.png" ContentType="image/png"/>
  <Override PartName="/ppt/media/image9.png" ContentType="image/png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A98-8A4A-4960-9AC7-C3E4E3AE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8C8-9EB3-433D-9C61-6E2D581C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0EA-DFA6-4567-ACCB-90300224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1C7-EEFF-4E50-A6E6-7349431D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5DF-16D9-4127-B315-E7D60207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6E2-B43C-48AF-8D2A-80D9C374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2C42-10D2-46EF-B105-78BD78ED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117-5587-4D7F-81BD-69993188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F5A-D750-4DE1-8E0D-4B9E9515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8BC-6BAC-4AC0-B2B2-48040190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2858-C7AE-4245-BA5F-AB7488BD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DF7-BD01-4B2A-8BC6-244FA88F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0F8D-A31A-4D93-ACBC-63B3A9E67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hyperlink" Target="http://www.chem.ox.ac.uk/vrchemistry/chapter16/Pag12.htm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hyperlink" Target="http://www.chem.ox.ac.uk/vrchemistry/chapter16/Pag13.ht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hem.ox.ac.uk/vrchemistry/chapter16/Pag30.htm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0000" y="2923920"/>
            <a:ext cx="4343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ff"/>
                </a:solidFill>
                <a:latin typeface="Tahoma"/>
              </a:rPr>
              <a:t>Сол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17720" y="2333520"/>
            <a:ext cx="2595600" cy="2772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1698480" cy="1109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438280" y="1371600"/>
            <a:ext cx="1295640" cy="1158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016520" y="1676520"/>
            <a:ext cx="501480" cy="1066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952880" y="1371600"/>
            <a:ext cx="1295640" cy="1158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6858000" y="1295280"/>
            <a:ext cx="1828800" cy="1233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Универсальный индикато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36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797200"/>
            <a:ext cx="18288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ильно кисл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2797200"/>
            <a:ext cx="18288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Слабо кисл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2797200"/>
            <a:ext cx="198144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ahoma"/>
              </a:rPr>
              <a:t>Слабо щелоч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2797200"/>
            <a:ext cx="198108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Сильно щелоч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2933640"/>
            <a:ext cx="419040" cy="1638360"/>
          </a:xfrm>
          <a:prstGeom prst="downArrow">
            <a:avLst>
              <a:gd name="adj1" fmla="val 50000"/>
              <a:gd name="adj2" fmla="val 9774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33640" y="4724280"/>
            <a:ext cx="266724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Нейтраль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114800"/>
            <a:ext cx="3200400" cy="380880"/>
          </a:xfrm>
          <a:prstGeom prst="leftArrow">
            <a:avLst>
              <a:gd name="adj1" fmla="val 50000"/>
              <a:gd name="adj2" fmla="val 21006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4114800"/>
            <a:ext cx="2895840" cy="304920"/>
          </a:xfrm>
          <a:prstGeom prst="rightArrow">
            <a:avLst>
              <a:gd name="adj1" fmla="val 50000"/>
              <a:gd name="adj2" fmla="val 237426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5562720"/>
            <a:ext cx="4038480" cy="9471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Усиление кислотности сре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5486400"/>
            <a:ext cx="4038480" cy="9471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Усиление основности сре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6"/>
          </p:cNvPr>
          <p:cNvSpPr/>
          <p:nvPr/>
        </p:nvSpPr>
        <p:spPr>
          <a:xfrm>
            <a:off x="8229600" y="4724280"/>
            <a:ext cx="533520" cy="519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341280"/>
            <a:ext cx="8534520" cy="63500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 spd="med">
    <p:blinds dir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ahoma"/>
              </a:rPr>
              <a:t>Соль сильного основания и сильной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828800"/>
            <a:ext cx="868680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Arial"/>
              </a:rPr>
              <a:t>K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ahoma"/>
                <a:ea typeface="Arial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SO</a:t>
            </a:r>
            <a:r>
              <a:rPr b="1" lang="en-US" sz="4000" spc="-1" strike="noStrike" baseline="-30000">
                <a:solidFill>
                  <a:srgbClr val="6600ff"/>
                </a:solidFill>
                <a:latin typeface="Tahoma"/>
                <a:ea typeface="Arial"/>
              </a:rPr>
              <a:t>4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Arial"/>
              </a:rPr>
              <a:t>Ba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Cl</a:t>
            </a:r>
            <a:r>
              <a:rPr b="1" lang="en-US" sz="4000" spc="-1" strike="noStrike" baseline="-25000">
                <a:solidFill>
                  <a:srgbClr val="6600ff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761760" y="2666880"/>
            <a:ext cx="685800" cy="9144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2666880"/>
            <a:ext cx="761760" cy="9144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486040" y="2514600"/>
            <a:ext cx="762120" cy="1143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43800" y="2590920"/>
            <a:ext cx="762120" cy="10666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8862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KO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3886200"/>
            <a:ext cx="1981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H</a:t>
            </a:r>
            <a:r>
              <a:rPr b="1" lang="en-US" sz="4000" spc="-1" strike="noStrike" baseline="-25000">
                <a:solidFill>
                  <a:srgbClr val="6600ff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SO</a:t>
            </a:r>
            <a:r>
              <a:rPr b="1" lang="en-US" sz="4000" spc="-1" strike="noStrike" baseline="-25000">
                <a:solidFill>
                  <a:srgbClr val="6600ff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38862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H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886200"/>
            <a:ext cx="2362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Ba(OH)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800600"/>
            <a:ext cx="769608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ильное основание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ahoma"/>
              </a:rPr>
              <a:t>силь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6095880"/>
            <a:ext cx="563868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Полная нейтрал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00680" y="5486400"/>
            <a:ext cx="533160" cy="533520"/>
          </a:xfrm>
          <a:prstGeom prst="downArrow">
            <a:avLst>
              <a:gd name="adj1" fmla="val 50000"/>
              <a:gd name="adj2" fmla="val 2501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14880" y="2209680"/>
            <a:ext cx="1904760" cy="6426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рН =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76640" y="3124080"/>
            <a:ext cx="381240" cy="1371600"/>
          </a:xfrm>
          <a:prstGeom prst="upArrow">
            <a:avLst>
              <a:gd name="adj1" fmla="val 50000"/>
              <a:gd name="adj2" fmla="val 8994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ahoma"/>
              </a:rPr>
              <a:t>Соль сильного основания и слабой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81360" y="1676520"/>
            <a:ext cx="297180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Arial"/>
              </a:rPr>
              <a:t>K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ahoma"/>
                <a:ea typeface="Arial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CO</a:t>
            </a:r>
            <a:r>
              <a:rPr b="1" lang="en-US" sz="4000" spc="-1" strike="noStrike" baseline="-30000">
                <a:solidFill>
                  <a:srgbClr val="6600ff"/>
                </a:solidFill>
                <a:latin typeface="Tahoma"/>
                <a:ea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057400" y="2362320"/>
            <a:ext cx="1295280" cy="7617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362320"/>
            <a:ext cx="1295640" cy="6858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3124080"/>
            <a:ext cx="297180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Н</a:t>
            </a:r>
            <a:r>
              <a:rPr b="1" lang="en-US" sz="4000" spc="-1" strike="noStrike" baseline="-30000">
                <a:solidFill>
                  <a:srgbClr val="6600ff"/>
                </a:solidFill>
                <a:latin typeface="Tahoma"/>
                <a:ea typeface="Arial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CO</a:t>
            </a:r>
            <a:r>
              <a:rPr b="1" lang="en-US" sz="4000" spc="-1" strike="noStrike" baseline="-30000">
                <a:solidFill>
                  <a:srgbClr val="6600ff"/>
                </a:solidFill>
                <a:latin typeface="Tahoma"/>
                <a:ea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32767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Arial"/>
              </a:rPr>
              <a:t>K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О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040" y="4191120"/>
            <a:ext cx="769644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ильное основание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ahoma"/>
              </a:rPr>
              <a:t>слаб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00680" y="4952880"/>
            <a:ext cx="533160" cy="533520"/>
          </a:xfrm>
          <a:prstGeom prst="downArrow">
            <a:avLst>
              <a:gd name="adj1" fmla="val 50000"/>
              <a:gd name="adj2" fmla="val 2501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5562720"/>
            <a:ext cx="71629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Частичная  нейтрализация –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избыток щело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05360" y="3581280"/>
            <a:ext cx="5238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14880" y="2666880"/>
            <a:ext cx="1904760" cy="6426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рН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  <a:ea typeface="Tahoma"/>
              </a:rPr>
              <a:t>&gt;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3200400"/>
            <a:ext cx="1905120" cy="76212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ahoma"/>
              </a:rPr>
              <a:t>Соль слабого основания и сильной ки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29080" y="1676520"/>
            <a:ext cx="327636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Arial"/>
              </a:rPr>
              <a:t>Al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(NO</a:t>
            </a:r>
            <a:r>
              <a:rPr b="1" lang="en-US" sz="4000" spc="-1" strike="noStrike" baseline="-30000">
                <a:solidFill>
                  <a:srgbClr val="6600ff"/>
                </a:solidFill>
                <a:latin typeface="Tahoma"/>
                <a:ea typeface="Arial"/>
              </a:rPr>
              <a:t>3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)</a:t>
            </a:r>
            <a:r>
              <a:rPr b="1" lang="en-US" sz="4000" spc="-1" strike="noStrike" baseline="-30000">
                <a:solidFill>
                  <a:srgbClr val="6600ff"/>
                </a:solidFill>
                <a:latin typeface="Tahoma"/>
                <a:ea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295280" y="2362320"/>
            <a:ext cx="1524240" cy="7617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2362320"/>
            <a:ext cx="1600200" cy="6858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38680" y="3200400"/>
            <a:ext cx="327672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Н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NO</a:t>
            </a:r>
            <a:r>
              <a:rPr b="1" lang="en-US" sz="4000" spc="-1" strike="noStrike" baseline="-30000">
                <a:solidFill>
                  <a:srgbClr val="6600ff"/>
                </a:solidFill>
                <a:latin typeface="Tahoma"/>
                <a:ea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276720"/>
            <a:ext cx="327672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Arial"/>
              </a:rPr>
              <a:t>Al(O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Н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Arial"/>
              </a:rPr>
              <a:t>)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ahoma"/>
                <a:ea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040" y="4191120"/>
            <a:ext cx="769644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лабое основание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ahoma"/>
              </a:rPr>
              <a:t>силь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00680" y="4952880"/>
            <a:ext cx="533160" cy="533520"/>
          </a:xfrm>
          <a:prstGeom prst="downArrow">
            <a:avLst>
              <a:gd name="adj1" fmla="val 50000"/>
              <a:gd name="adj2" fmla="val 2501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5638680"/>
            <a:ext cx="563868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Частичная  нейтрализация –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избыток кисл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05360" y="3581280"/>
            <a:ext cx="5238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14880" y="2590920"/>
            <a:ext cx="1904760" cy="6426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рН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  <a:ea typeface="Tahoma"/>
              </a:rPr>
              <a:t>&lt;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3200400"/>
            <a:ext cx="1981080" cy="76212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2895480"/>
            <a:ext cx="2438280" cy="9471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ahoma"/>
              </a:rPr>
              <a:t>Сложные вещ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53352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кси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2209680"/>
            <a:ext cx="19047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Кисло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4038480"/>
            <a:ext cx="21333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Осн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571500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Со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228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Основ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990720"/>
            <a:ext cx="21337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Кислот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2743200"/>
            <a:ext cx="3886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Кислородсодержащ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1981080"/>
            <a:ext cx="29718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Бескислородны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10080" y="358128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Щело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57800" y="4191120"/>
            <a:ext cx="2895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ерастворим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6172200"/>
            <a:ext cx="19047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ahoma"/>
              </a:rPr>
              <a:t>Основ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5486400"/>
            <a:ext cx="19047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ред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4876920"/>
            <a:ext cx="19047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Кисл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143000" y="685440"/>
            <a:ext cx="0" cy="21337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685800"/>
            <a:ext cx="12193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3962520"/>
            <a:ext cx="0" cy="19810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5943600"/>
            <a:ext cx="12956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267080" y="380520"/>
            <a:ext cx="137160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838080"/>
            <a:ext cx="12193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267080" y="2133720"/>
            <a:ext cx="1067040" cy="3045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2514600"/>
            <a:ext cx="685800" cy="6094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495680" y="3809520"/>
            <a:ext cx="914400" cy="3812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4343400"/>
            <a:ext cx="762120" cy="7632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38480" y="6095880"/>
            <a:ext cx="838440" cy="30492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038480" y="5790960"/>
            <a:ext cx="838440" cy="15228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038480" y="5181480"/>
            <a:ext cx="838440" cy="53352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Генетическая связь между классами неорганических соединений</a:t>
            </a:r>
            <a:r>
              <a:rPr b="1" lang="en-US" sz="3600" spc="-1" strike="noStrike">
                <a:solidFill>
                  <a:srgbClr val="6600ff"/>
                </a:solidFill>
                <a:latin typeface="Tahoma"/>
                <a:ea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534520" cy="44701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 spd="med">
    <p:blinds dir="vert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Tahoma"/>
              </a:rPr>
              <a:t>Пример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914400"/>
            <a:ext cx="601992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Металл + неметалл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с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-304920" y="1600200"/>
            <a:ext cx="9144000" cy="27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  <a:ea typeface="Arial"/>
              </a:rPr>
              <a:t>Hg + S </a:t>
            </a:r>
            <a:r>
              <a:rPr b="1" lang="ru-RU" sz="4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  <a:ea typeface="Arial"/>
              </a:rPr>
              <a:t> H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Arial"/>
              </a:rPr>
              <a:t>2Al + 3I</a:t>
            </a:r>
            <a:r>
              <a:rPr b="1" lang="ru-RU" sz="4000" spc="-1" strike="noStrike" baseline="-30000">
                <a:solidFill>
                  <a:srgbClr val="ff0000"/>
                </a:solidFill>
                <a:latin typeface="Tahoma"/>
                <a:ea typeface="Arial"/>
              </a:rPr>
              <a:t>2 </a:t>
            </a:r>
            <a:r>
              <a:rPr b="1" lang="ru-RU" sz="4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Arial"/>
              </a:rPr>
              <a:t> 2AlI</a:t>
            </a:r>
            <a:r>
              <a:rPr b="1" lang="ru-RU" sz="4000" spc="-1" strike="noStrike" baseline="-30000">
                <a:solidFill>
                  <a:srgbClr val="ff0000"/>
                </a:solidFill>
                <a:latin typeface="Tahoma"/>
                <a:ea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809880"/>
            <a:ext cx="891540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Основной оксид + кислотный оксид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с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304920" y="4495680"/>
            <a:ext cx="9144000" cy="21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  <a:ea typeface="Arial"/>
              </a:rPr>
              <a:t>Li</a:t>
            </a:r>
            <a:r>
              <a:rPr b="1" lang="ru-RU" sz="4000" spc="-1" strike="noStrike" baseline="-30000">
                <a:solidFill>
                  <a:srgbClr val="008000"/>
                </a:solidFill>
                <a:latin typeface="Tahoma"/>
                <a:ea typeface="Arial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ahoma"/>
                <a:ea typeface="Arial"/>
              </a:rPr>
              <a:t>O + CO</a:t>
            </a:r>
            <a:r>
              <a:rPr b="1" lang="ru-RU" sz="4000" spc="-1" strike="noStrike" baseline="-30000">
                <a:solidFill>
                  <a:srgbClr val="008000"/>
                </a:solidFill>
                <a:latin typeface="Tahoma"/>
                <a:ea typeface="Arial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ahoma"/>
                <a:ea typeface="Arial"/>
              </a:rPr>
              <a:t> </a:t>
            </a:r>
            <a:r>
              <a:rPr b="1" lang="ru-RU" sz="4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ru-RU" sz="4000" spc="-1" strike="noStrike">
                <a:solidFill>
                  <a:srgbClr val="008000"/>
                </a:solidFill>
                <a:latin typeface="Tahoma"/>
                <a:ea typeface="Arial"/>
              </a:rPr>
              <a:t> Li</a:t>
            </a:r>
            <a:r>
              <a:rPr b="1" lang="ru-RU" sz="4000" spc="-1" strike="noStrike" baseline="-30000">
                <a:solidFill>
                  <a:srgbClr val="008000"/>
                </a:solidFill>
                <a:latin typeface="Tahoma"/>
                <a:ea typeface="Arial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ahoma"/>
                <a:ea typeface="Arial"/>
              </a:rPr>
              <a:t>CO</a:t>
            </a:r>
            <a:r>
              <a:rPr b="1" lang="ru-RU" sz="4000" spc="-1" strike="noStrike" baseline="-30000">
                <a:solidFill>
                  <a:srgbClr val="008000"/>
                </a:solidFill>
                <a:latin typeface="Tahoma"/>
                <a:ea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ahoma"/>
                <a:ea typeface="Arial"/>
              </a:rPr>
              <a:t>CaO + SiO</a:t>
            </a:r>
            <a:r>
              <a:rPr b="1" lang="ru-RU" sz="4000" spc="-1" strike="noStrike" baseline="-30000">
                <a:solidFill>
                  <a:srgbClr val="ff0066"/>
                </a:solidFill>
                <a:latin typeface="Tahoma"/>
                <a:ea typeface="Arial"/>
              </a:rPr>
              <a:t>2</a:t>
            </a:r>
            <a:r>
              <a:rPr b="1" lang="ru-RU" sz="4000" spc="-1" strike="noStrike">
                <a:solidFill>
                  <a:srgbClr val="ff0066"/>
                </a:solidFill>
                <a:latin typeface="Tahoma"/>
                <a:ea typeface="Arial"/>
              </a:rPr>
              <a:t> </a:t>
            </a:r>
            <a:r>
              <a:rPr b="1" lang="ru-RU" sz="40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ru-RU" sz="4000" spc="-1" strike="noStrike">
                <a:solidFill>
                  <a:srgbClr val="ff0066"/>
                </a:solidFill>
                <a:latin typeface="Tahoma"/>
                <a:ea typeface="Arial"/>
              </a:rPr>
              <a:t> CaSiO</a:t>
            </a:r>
            <a:r>
              <a:rPr b="1" lang="ru-RU" sz="4000" spc="-1" strike="noStrike" baseline="-30000">
                <a:solidFill>
                  <a:srgbClr val="ff0066"/>
                </a:solidFill>
                <a:latin typeface="Tahoma"/>
                <a:ea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0880" y="228600"/>
            <a:ext cx="609624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Основание + кислота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с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371600"/>
            <a:ext cx="91440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Cu(OH)</a:t>
            </a:r>
            <a:r>
              <a:rPr b="1" lang="en-US" sz="4000" spc="-1" strike="noStrike" baseline="-30000">
                <a:solidFill>
                  <a:srgbClr val="6600ff"/>
                </a:solidFill>
                <a:latin typeface="Tahoma"/>
                <a:ea typeface="Arial"/>
              </a:rPr>
              <a:t>2 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+ 2HCl </a:t>
            </a:r>
            <a:r>
              <a:rPr b="1" lang="en-US" sz="4000" spc="-1" strike="noStrike">
                <a:solidFill>
                  <a:srgbClr val="6600ff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 CuCl</a:t>
            </a:r>
            <a:r>
              <a:rPr b="1" lang="en-US" sz="4000" spc="-1" strike="noStrike" baseline="-30000">
                <a:solidFill>
                  <a:srgbClr val="6600ff"/>
                </a:solidFill>
                <a:latin typeface="Tahoma"/>
                <a:ea typeface="Arial"/>
              </a:rPr>
              <a:t>2 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+ 2H</a:t>
            </a:r>
            <a:r>
              <a:rPr b="1" lang="en-US" sz="4000" spc="-1" strike="noStrike" baseline="-30000">
                <a:solidFill>
                  <a:srgbClr val="6600ff"/>
                </a:solidFill>
                <a:latin typeface="Tahoma"/>
                <a:ea typeface="Arial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743200"/>
            <a:ext cx="91440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  <a:ea typeface="Arial"/>
              </a:rPr>
              <a:t>Fe</a:t>
            </a:r>
            <a:r>
              <a:rPr b="1" lang="ru-RU" sz="4000" spc="-1" strike="noStrike">
                <a:solidFill>
                  <a:srgbClr val="ff0066"/>
                </a:solidFill>
                <a:latin typeface="Tahoma"/>
                <a:ea typeface="Arial"/>
              </a:rPr>
              <a:t>(OH)</a:t>
            </a:r>
            <a:r>
              <a:rPr b="1" lang="ru-RU" sz="4000" spc="-1" strike="noStrike" baseline="-30000">
                <a:solidFill>
                  <a:srgbClr val="ff0066"/>
                </a:solidFill>
                <a:latin typeface="Tahoma"/>
                <a:ea typeface="Arial"/>
              </a:rPr>
              <a:t>2 </a:t>
            </a:r>
            <a:r>
              <a:rPr b="1" lang="ru-RU" sz="4000" spc="-1" strike="noStrike">
                <a:solidFill>
                  <a:srgbClr val="ff0066"/>
                </a:solidFill>
                <a:latin typeface="Tahoma"/>
                <a:ea typeface="Arial"/>
              </a:rPr>
              <a:t>+ H</a:t>
            </a:r>
            <a:r>
              <a:rPr b="1" lang="en-US" sz="4000" spc="-1" strike="noStrike" baseline="-25000">
                <a:solidFill>
                  <a:srgbClr val="ff0066"/>
                </a:solidFill>
                <a:latin typeface="Tahoma"/>
                <a:ea typeface="Arial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  <a:ea typeface="Arial"/>
              </a:rPr>
              <a:t>SO</a:t>
            </a:r>
            <a:r>
              <a:rPr b="1" lang="en-US" sz="4000" spc="-1" strike="noStrike" baseline="-25000">
                <a:solidFill>
                  <a:srgbClr val="ff0066"/>
                </a:solidFill>
                <a:latin typeface="Tahoma"/>
                <a:ea typeface="Arial"/>
              </a:rPr>
              <a:t>4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  <a:ea typeface="Arial"/>
              </a:rPr>
              <a:t> </a:t>
            </a:r>
            <a:r>
              <a:rPr b="1" lang="ru-RU" sz="40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ru-RU" sz="4000" spc="-1" strike="noStrike">
                <a:solidFill>
                  <a:srgbClr val="ff0066"/>
                </a:solidFill>
                <a:latin typeface="Tahoma"/>
                <a:ea typeface="Arial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  <a:ea typeface="Arial"/>
              </a:rPr>
              <a:t>FeSO</a:t>
            </a:r>
            <a:r>
              <a:rPr b="1" lang="en-US" sz="4000" spc="-1" strike="noStrike" baseline="-25000">
                <a:solidFill>
                  <a:srgbClr val="ff0066"/>
                </a:solidFill>
                <a:latin typeface="Tahoma"/>
                <a:ea typeface="Arial"/>
              </a:rPr>
              <a:t>4</a:t>
            </a:r>
            <a:r>
              <a:rPr b="1" lang="ru-RU" sz="4000" spc="-1" strike="noStrike" baseline="-30000">
                <a:solidFill>
                  <a:srgbClr val="ff0066"/>
                </a:solidFill>
                <a:latin typeface="Tahoma"/>
                <a:ea typeface="Arial"/>
              </a:rPr>
              <a:t> </a:t>
            </a:r>
            <a:r>
              <a:rPr b="1" lang="ru-RU" sz="4000" spc="-1" strike="noStrike">
                <a:solidFill>
                  <a:srgbClr val="ff0066"/>
                </a:solidFill>
                <a:latin typeface="Tahoma"/>
                <a:ea typeface="Arial"/>
              </a:rPr>
              <a:t>+ 2H</a:t>
            </a:r>
            <a:r>
              <a:rPr b="1" lang="ru-RU" sz="4000" spc="-1" strike="noStrike" baseline="-30000">
                <a:solidFill>
                  <a:srgbClr val="ff0066"/>
                </a:solidFill>
                <a:latin typeface="Tahoma"/>
                <a:ea typeface="Arial"/>
              </a:rPr>
              <a:t>2</a:t>
            </a:r>
            <a:r>
              <a:rPr b="1" lang="ru-RU" sz="4000" spc="-1" strike="noStrike">
                <a:solidFill>
                  <a:srgbClr val="ff0066"/>
                </a:solidFill>
                <a:latin typeface="Tahoma"/>
                <a:ea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304920" y="4191120"/>
            <a:ext cx="91440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Arial"/>
              </a:rPr>
              <a:t>K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  <a:ea typeface="Arial"/>
              </a:rPr>
              <a:t>OH</a:t>
            </a:r>
            <a:r>
              <a:rPr b="1" lang="ru-RU" sz="4000" spc="-1" strike="noStrike" baseline="-30000">
                <a:solidFill>
                  <a:srgbClr val="0000ff"/>
                </a:solidFill>
                <a:latin typeface="Tahoma"/>
                <a:ea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  <a:ea typeface="Arial"/>
              </a:rPr>
              <a:t>+ H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Arial"/>
              </a:rPr>
              <a:t>N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ahoma"/>
                <a:ea typeface="Arial"/>
              </a:rPr>
              <a:t>3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  <a:ea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  <a:ea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Arial"/>
              </a:rPr>
              <a:t>KN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ahoma"/>
                <a:ea typeface="Arial"/>
              </a:rPr>
              <a:t>3</a:t>
            </a:r>
            <a:r>
              <a:rPr b="1" lang="ru-RU" sz="4000" spc="-1" strike="noStrike" baseline="-30000">
                <a:solidFill>
                  <a:srgbClr val="0000ff"/>
                </a:solidFill>
                <a:latin typeface="Tahoma"/>
                <a:ea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  <a:ea typeface="Arial"/>
              </a:rPr>
              <a:t>+ H</a:t>
            </a:r>
            <a:r>
              <a:rPr b="1" lang="ru-RU" sz="4000" spc="-1" strike="noStrike" baseline="-30000">
                <a:solidFill>
                  <a:srgbClr val="0000ff"/>
                </a:solidFill>
                <a:latin typeface="Tahoma"/>
                <a:ea typeface="Arial"/>
              </a:rPr>
              <a:t>2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  <a:ea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5486400"/>
            <a:ext cx="4838760" cy="5814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Нейтрализ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934320" y="51055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244" name="">
            <a:hlinkClick r:id="rId2"/>
          </p:cNvPr>
          <p:cNvSpPr/>
          <p:nvPr/>
        </p:nvSpPr>
        <p:spPr>
          <a:xfrm>
            <a:off x="7467480" y="228600"/>
            <a:ext cx="609840" cy="519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3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3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0880" y="228600"/>
            <a:ext cx="502920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металл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основной окси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066680"/>
            <a:ext cx="91440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Arial"/>
              </a:rPr>
              <a:t>4Li + O</a:t>
            </a:r>
            <a:r>
              <a:rPr b="1" lang="en-US" sz="4000" spc="-1" strike="noStrike" baseline="-30000">
                <a:solidFill>
                  <a:srgbClr val="0000ff"/>
                </a:solidFill>
                <a:latin typeface="Tahoma"/>
                <a:ea typeface="Arial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Arial"/>
              </a:rPr>
              <a:t> 2Li</a:t>
            </a:r>
            <a:r>
              <a:rPr b="1" lang="en-US" sz="4000" spc="-1" strike="noStrike" baseline="-30000">
                <a:solidFill>
                  <a:srgbClr val="0000ff"/>
                </a:solidFill>
                <a:latin typeface="Tahoma"/>
                <a:ea typeface="Arial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2209680"/>
            <a:ext cx="617220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основной оксид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осн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-304920" y="2514600"/>
            <a:ext cx="914400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Li</a:t>
            </a:r>
            <a:r>
              <a:rPr b="1" lang="en-US" sz="4000" spc="-1" strike="noStrike" baseline="-30000">
                <a:solidFill>
                  <a:srgbClr val="6600ff"/>
                </a:solidFill>
                <a:latin typeface="Tahoma"/>
                <a:ea typeface="Arial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O + H</a:t>
            </a:r>
            <a:r>
              <a:rPr b="1" lang="en-US" sz="4000" spc="-1" strike="noStrike" baseline="-30000">
                <a:solidFill>
                  <a:srgbClr val="6600ff"/>
                </a:solidFill>
                <a:latin typeface="Tahoma"/>
                <a:ea typeface="Arial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O </a:t>
            </a:r>
            <a:r>
              <a:rPr b="1" lang="en-US" sz="4000" spc="-1" strike="noStrike">
                <a:solidFill>
                  <a:srgbClr val="6600ff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 2LiO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4800" y="4114800"/>
            <a:ext cx="85215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металл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основной оксид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основание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с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4952880"/>
            <a:ext cx="8458200" cy="457200"/>
          </a:xfrm>
          <a:custGeom>
            <a:avLst/>
            <a:gdLst>
              <a:gd name="textAreaLeft" fmla="*/ 1057320 w 8458200"/>
              <a:gd name="textAreaRight" fmla="*/ 7401240 w 8458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5638680"/>
            <a:ext cx="7010280" cy="6426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Генетический ряд метал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391520" y="380880"/>
            <a:ext cx="11142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Tahoma"/>
              </a:rPr>
              <a:t>Определение солей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5720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Ме</a:t>
            </a:r>
            <a:r>
              <a:rPr b="1" lang="en-US" sz="4000" spc="-1" strike="noStrike" baseline="-30000">
                <a:solidFill>
                  <a:srgbClr val="009900"/>
                </a:solidFill>
                <a:latin typeface="Tahoma"/>
              </a:rPr>
              <a:t>х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(КО)</a:t>
            </a:r>
            <a:r>
              <a:rPr b="1" lang="en-US" sz="4000" spc="-1" strike="noStrike" baseline="-30000">
                <a:solidFill>
                  <a:srgbClr val="009900"/>
                </a:solidFill>
                <a:latin typeface="Tahoma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1371600"/>
            <a:ext cx="342900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КО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- кислотный оста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167652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733920"/>
            <a:ext cx="7467480" cy="27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  <a:ea typeface="Arial"/>
              </a:rPr>
              <a:t>Na</a:t>
            </a:r>
            <a:r>
              <a:rPr b="1" lang="ru-RU" sz="4000" spc="-1" strike="noStrike" baseline="-30000">
                <a:solidFill>
                  <a:srgbClr val="0000ff"/>
                </a:solidFill>
                <a:latin typeface="Tahoma"/>
                <a:ea typeface="Arial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Arial"/>
              </a:rPr>
              <a:t>SO</a:t>
            </a:r>
            <a:r>
              <a:rPr b="1" lang="ru-RU" sz="4000" spc="-1" strike="noStrike" baseline="-30000">
                <a:solidFill>
                  <a:srgbClr val="ff0000"/>
                </a:solidFill>
                <a:latin typeface="Tahoma"/>
                <a:ea typeface="Arial"/>
              </a:rPr>
              <a:t>4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  <a:ea typeface="Arial"/>
              </a:rPr>
              <a:t> 2Na</a:t>
            </a:r>
            <a:r>
              <a:rPr b="1" lang="ru-RU" sz="4000" spc="-1" strike="noStrike" baseline="30000">
                <a:solidFill>
                  <a:srgbClr val="0000ff"/>
                </a:solidFill>
                <a:latin typeface="Tahoma"/>
                <a:ea typeface="Arial"/>
              </a:rPr>
              <a:t>+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  <a:ea typeface="Arial"/>
              </a:rPr>
              <a:t> +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Arial"/>
              </a:rPr>
              <a:t>SO</a:t>
            </a:r>
            <a:r>
              <a:rPr b="1" lang="ru-RU" sz="4000" spc="-1" strike="noStrike" baseline="-30000">
                <a:solidFill>
                  <a:srgbClr val="ff0000"/>
                </a:solidFill>
                <a:latin typeface="Tahoma"/>
                <a:ea typeface="Arial"/>
              </a:rPr>
              <a:t>4</a:t>
            </a:r>
            <a:r>
              <a:rPr b="1" lang="ru-RU" sz="4000" spc="-1" strike="noStrike" baseline="30000">
                <a:solidFill>
                  <a:srgbClr val="ff0000"/>
                </a:solidFill>
                <a:latin typeface="Tahoma"/>
                <a:ea typeface="Arial"/>
              </a:rPr>
              <a:t>2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  <a:ea typeface="Arial"/>
              </a:rPr>
              <a:t>Ca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Arial"/>
              </a:rPr>
              <a:t>Cl</a:t>
            </a:r>
            <a:r>
              <a:rPr b="1" lang="ru-RU" sz="4000" spc="-1" strike="noStrike" baseline="-30000">
                <a:solidFill>
                  <a:srgbClr val="ff0000"/>
                </a:solidFill>
                <a:latin typeface="Tahoma"/>
                <a:ea typeface="Arial"/>
              </a:rPr>
              <a:t>2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  <a:ea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  <a:ea typeface="Arial"/>
              </a:rPr>
              <a:t> Ca</a:t>
            </a:r>
            <a:r>
              <a:rPr b="1" lang="ru-RU" sz="4000" spc="-1" strike="noStrike" baseline="30000">
                <a:solidFill>
                  <a:srgbClr val="0000ff"/>
                </a:solidFill>
                <a:latin typeface="Tahoma"/>
                <a:ea typeface="Arial"/>
              </a:rPr>
              <a:t>2+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  <a:ea typeface="Arial"/>
              </a:rPr>
              <a:t> +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Arial"/>
              </a:rPr>
              <a:t>2Cl</a:t>
            </a:r>
            <a:r>
              <a:rPr b="1" lang="ru-RU" sz="4000" spc="-1" strike="noStrike" baseline="30000">
                <a:solidFill>
                  <a:srgbClr val="ff0000"/>
                </a:solidFill>
                <a:latin typeface="Tahoma"/>
                <a:ea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743200"/>
            <a:ext cx="20318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Arial"/>
              </a:rPr>
              <a:t>Na</a:t>
            </a:r>
            <a:r>
              <a:rPr b="1" lang="en-US" sz="4000" spc="-1" strike="noStrike" baseline="-30000">
                <a:solidFill>
                  <a:srgbClr val="0000ff"/>
                </a:solidFill>
                <a:latin typeface="Tahoma"/>
                <a:ea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Arial"/>
              </a:rPr>
              <a:t>SO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ahoma"/>
                <a:ea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743200"/>
            <a:ext cx="1541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Arial"/>
              </a:rPr>
              <a:t>Ca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Arial"/>
              </a:rPr>
              <a:t>Cl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ahoma"/>
                <a:ea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590920"/>
            <a:ext cx="19051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Сульфат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нат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2666880"/>
            <a:ext cx="19051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Хлорид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каль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оли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– сложные вещества, состоящие из катионов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еталла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и анионов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кислотного оста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0880" y="228600"/>
            <a:ext cx="609624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неметалл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кислотный окси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304920" y="1143000"/>
            <a:ext cx="914400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Arial"/>
              </a:rPr>
              <a:t>S + O</a:t>
            </a:r>
            <a:r>
              <a:rPr b="1" lang="en-US" sz="4000" spc="-1" strike="noStrike" baseline="-30000">
                <a:solidFill>
                  <a:srgbClr val="0000ff"/>
                </a:solidFill>
                <a:latin typeface="Tahoma"/>
                <a:ea typeface="Arial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Arial"/>
              </a:rPr>
              <a:t> SO</a:t>
            </a:r>
            <a:r>
              <a:rPr b="1" lang="en-US" sz="4000" spc="-1" strike="noStrike" baseline="-30000">
                <a:solidFill>
                  <a:srgbClr val="0000ff"/>
                </a:solidFill>
                <a:latin typeface="Tahoma"/>
                <a:ea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2209680"/>
            <a:ext cx="541008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кислотный оксид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304920" y="3124080"/>
            <a:ext cx="91440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SO</a:t>
            </a:r>
            <a:r>
              <a:rPr b="1" lang="en-US" sz="4000" spc="-1" strike="noStrike" baseline="-30000">
                <a:solidFill>
                  <a:srgbClr val="6600ff"/>
                </a:solidFill>
                <a:latin typeface="Tahoma"/>
                <a:ea typeface="Arial"/>
              </a:rPr>
              <a:t>3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 + H</a:t>
            </a:r>
            <a:r>
              <a:rPr b="1" lang="en-US" sz="4000" spc="-1" strike="noStrike" baseline="-30000">
                <a:solidFill>
                  <a:srgbClr val="6600ff"/>
                </a:solidFill>
                <a:latin typeface="Tahoma"/>
                <a:ea typeface="Arial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O </a:t>
            </a:r>
            <a:r>
              <a:rPr b="1" lang="en-US" sz="4000" spc="-1" strike="noStrike">
                <a:solidFill>
                  <a:srgbClr val="6600ff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 H</a:t>
            </a:r>
            <a:r>
              <a:rPr b="1" lang="en-US" sz="4000" spc="-1" strike="noStrike" baseline="-30000">
                <a:solidFill>
                  <a:srgbClr val="6600ff"/>
                </a:solidFill>
                <a:latin typeface="Tahoma"/>
                <a:ea typeface="Arial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SO</a:t>
            </a:r>
            <a:r>
              <a:rPr b="1" lang="en-US" sz="4000" spc="-1" strike="noStrike" baseline="-30000">
                <a:solidFill>
                  <a:srgbClr val="6600ff"/>
                </a:solidFill>
                <a:latin typeface="Tahoma"/>
                <a:ea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ahoma"/>
                <a:ea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4191120"/>
            <a:ext cx="8229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неметалл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кислотный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кислота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с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5181480"/>
            <a:ext cx="7924680" cy="457200"/>
          </a:xfrm>
          <a:custGeom>
            <a:avLst/>
            <a:gdLst>
              <a:gd name="textAreaLeft" fmla="*/ 990360 w 7924680"/>
              <a:gd name="textAreaRight" fmla="*/ 6934320 w 79246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5867280"/>
            <a:ext cx="7543800" cy="6426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Генетический ряд неметал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20816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Tahoma"/>
              </a:rPr>
              <a:t>Классификация соле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057400"/>
            <a:ext cx="2590920" cy="5814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сл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1295280"/>
            <a:ext cx="2438280" cy="5814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  <a:ea typeface="Times New Roman"/>
              </a:rPr>
              <a:t>Сред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1905120"/>
            <a:ext cx="2133720" cy="5814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2971800"/>
            <a:ext cx="260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Na</a:t>
            </a:r>
            <a:r>
              <a:rPr b="1" lang="en-US" sz="4000" spc="-1" strike="noStrike" baseline="-30000">
                <a:solidFill>
                  <a:srgbClr val="0000ff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SO</a:t>
            </a:r>
            <a:r>
              <a:rPr b="1" lang="en-US" sz="4000" spc="-1" strike="noStrike" baseline="-30000">
                <a:solidFill>
                  <a:srgbClr val="0000ff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057400"/>
            <a:ext cx="380880" cy="838080"/>
          </a:xfrm>
          <a:prstGeom prst="downArrow">
            <a:avLst>
              <a:gd name="adj1" fmla="val 50000"/>
              <a:gd name="adj2" fmla="val 55009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657600"/>
            <a:ext cx="28954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К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CO</a:t>
            </a:r>
            <a:r>
              <a:rPr b="1" lang="en-US" sz="4000" spc="-1" strike="noStrike" baseline="-30000">
                <a:solidFill>
                  <a:srgbClr val="0000ff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3657600"/>
            <a:ext cx="28512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Mg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(OH)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2819520"/>
            <a:ext cx="380880" cy="838080"/>
          </a:xfrm>
          <a:prstGeom prst="downArrow">
            <a:avLst>
              <a:gd name="adj1" fmla="val 50000"/>
              <a:gd name="adj2" fmla="val 55009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2590920"/>
            <a:ext cx="380880" cy="838080"/>
          </a:xfrm>
          <a:prstGeom prst="downArrow">
            <a:avLst>
              <a:gd name="adj1" fmla="val 50000"/>
              <a:gd name="adj2" fmla="val 55009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809880"/>
            <a:ext cx="2286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ульфит нат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4572000"/>
            <a:ext cx="289584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Гидроксо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хлорид маг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4572000"/>
            <a:ext cx="27432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Гидро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карбонат ка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638680"/>
            <a:ext cx="2819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5791320"/>
            <a:ext cx="2590560" cy="7034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гид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5791320"/>
            <a:ext cx="3200400" cy="7034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ОН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гидрокс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5791320"/>
            <a:ext cx="21337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Кислотный оста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876920"/>
            <a:ext cx="380880" cy="838080"/>
          </a:xfrm>
          <a:prstGeom prst="downArrow">
            <a:avLst>
              <a:gd name="adj1" fmla="val 50000"/>
              <a:gd name="adj2" fmla="val 55009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ahoma"/>
              </a:rPr>
              <a:t>Химические свойства со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523880"/>
            <a:ext cx="35053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Растворимые со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1447920"/>
            <a:ext cx="312408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ильные электроли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182880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62920" y="251460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3505320"/>
            <a:ext cx="2895840" cy="1373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олностью</a:t>
            </a:r>
            <a:r>
              <a:rPr b="1" lang="en-US" sz="2800" spc="-1" strike="noStrike">
                <a:solidFill>
                  <a:srgbClr val="6600ff"/>
                </a:solidFill>
                <a:latin typeface="Tahoma"/>
              </a:rPr>
              <a:t> распадаются на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ио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5257800"/>
            <a:ext cx="2895480" cy="1373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Растворы солей проводят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4648320" cy="3630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62240" y="380880"/>
            <a:ext cx="312444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Электролит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09960" y="1371600"/>
            <a:ext cx="3429000" cy="5205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растворим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2209680"/>
            <a:ext cx="251460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Осно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19440" y="2438280"/>
            <a:ext cx="221004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о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209680"/>
            <a:ext cx="228600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Кислот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0280" y="3352680"/>
            <a:ext cx="7848360" cy="9471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Реакции в растворах электролитов протекают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между ио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5181480"/>
            <a:ext cx="243828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ризнак 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5638680"/>
            <a:ext cx="2209680" cy="381240"/>
          </a:xfrm>
          <a:prstGeom prst="rightArrow">
            <a:avLst>
              <a:gd name="adj1" fmla="val 50000"/>
              <a:gd name="adj2" fmla="val 14490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4800600"/>
            <a:ext cx="2438280" cy="1818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66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ahoma"/>
              </a:rPr>
              <a:t>Оса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Га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325520" cy="145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743040" cy="1749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900"/>
                            </p:stCondLst>
                            <p:childTnLst>
                              <p:par>
                                <p:cTn id="22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400"/>
                            </p:stCondLst>
                            <p:childTnLst>
                              <p:par>
                                <p:cTn id="23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28800"/>
            <a:ext cx="8915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Ba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l</a:t>
            </a:r>
            <a:r>
              <a:rPr b="1" lang="en-US" sz="36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 +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US" sz="36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SO</a:t>
            </a:r>
            <a:r>
              <a:rPr b="1" lang="en-US" sz="3600" spc="-1" strike="noStrike" baseline="-30000">
                <a:solidFill>
                  <a:srgbClr val="0000ff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 BaSO</a:t>
            </a:r>
            <a:r>
              <a:rPr b="1" lang="en-US" sz="3600" spc="-1" strike="noStrike" baseline="-30000">
                <a:solidFill>
                  <a:srgbClr val="0000ff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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  + </a:t>
            </a: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H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228600"/>
            <a:ext cx="434340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оли реагирую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066680"/>
            <a:ext cx="320040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кисло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990720"/>
            <a:ext cx="3200400" cy="1373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Выпадает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осадок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или выделяется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га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1219320"/>
            <a:ext cx="1295640" cy="380880"/>
          </a:xfrm>
          <a:prstGeom prst="rightArrow">
            <a:avLst>
              <a:gd name="adj1" fmla="val 50000"/>
              <a:gd name="adj2" fmla="val 8504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464832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3657600"/>
            <a:ext cx="8458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Na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O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 + </a:t>
            </a: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Cl </a:t>
            </a:r>
            <a:r>
              <a:rPr b="1" lang="ru-RU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 2NaCl +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4648320"/>
            <a:ext cx="2895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CO</a:t>
            </a:r>
            <a:r>
              <a:rPr b="1" lang="en-US" sz="3600" spc="-1" strike="noStrike" baseline="-25000">
                <a:solidFill>
                  <a:srgbClr val="6600ff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6600ff"/>
                </a:solidFill>
                <a:latin typeface="Symbol"/>
                <a:ea typeface="Symbol"/>
              </a:rPr>
              <a:t></a:t>
            </a:r>
            <a:r>
              <a:rPr b="1" lang="en-US" sz="3600" spc="-1" strike="noStrike" baseline="-25000">
                <a:solidFill>
                  <a:srgbClr val="6600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+ H</a:t>
            </a:r>
            <a:r>
              <a:rPr b="1" lang="en-US" sz="3600" spc="-1" strike="noStrike" baseline="-25000">
                <a:solidFill>
                  <a:srgbClr val="6600ff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304920" y="5715000"/>
            <a:ext cx="9448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Na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+ </a:t>
            </a: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Cl </a:t>
            </a:r>
            <a:r>
              <a:rPr b="1" lang="ru-RU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NaCl +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+ 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380880"/>
            <a:ext cx="320040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щелоч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228600"/>
            <a:ext cx="289548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Выпадает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оса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533520"/>
            <a:ext cx="1295280" cy="380880"/>
          </a:xfrm>
          <a:prstGeom prst="rightArrow">
            <a:avLst>
              <a:gd name="adj1" fmla="val 50000"/>
              <a:gd name="adj2" fmla="val 8501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"/>
            <a:ext cx="9524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Cu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l</a:t>
            </a:r>
            <a:r>
              <a:rPr b="1" lang="en-US" sz="36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 + </a:t>
            </a: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Na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OH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ff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NaCl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 + Cu(OH)</a:t>
            </a:r>
            <a:r>
              <a:rPr b="1" lang="en-US" sz="3600" spc="-1" strike="noStrike" baseline="-30000">
                <a:solidFill>
                  <a:srgbClr val="0000ff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4343400"/>
            <a:ext cx="320040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сол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4419720"/>
            <a:ext cx="1295280" cy="380880"/>
          </a:xfrm>
          <a:prstGeom prst="rightArrow">
            <a:avLst>
              <a:gd name="adj1" fmla="val 50000"/>
              <a:gd name="adj2" fmla="val 8501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962520"/>
            <a:ext cx="289548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Выпадает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оса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4724280"/>
            <a:ext cx="8915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Na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Cl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 + 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Ag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NO</a:t>
            </a:r>
            <a:r>
              <a:rPr b="1" lang="en-US" sz="4000" spc="-1" strike="noStrike" baseline="-30000">
                <a:solidFill>
                  <a:srgbClr val="0000ff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 NaNO</a:t>
            </a:r>
            <a:r>
              <a:rPr b="1" lang="en-US" sz="4000" spc="-1" strike="noStrike" baseline="-30000">
                <a:solidFill>
                  <a:srgbClr val="0000ff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 + 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AgCl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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95280"/>
            <a:ext cx="952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Fe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N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+ </a:t>
            </a:r>
            <a:r>
              <a:rPr b="1" lang="ru-RU" sz="3600" spc="-1" strike="noStrike">
                <a:solidFill>
                  <a:srgbClr val="6600ff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OH </a:t>
            </a:r>
            <a:r>
              <a:rPr b="1" lang="ru-RU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ru-RU" sz="3600" spc="-1" strike="noStrike">
                <a:solidFill>
                  <a:srgbClr val="6600ff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KN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+ 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Fe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(OH)</a:t>
            </a:r>
            <a:r>
              <a:rPr b="1" lang="ru-RU" sz="3600" spc="-1" strike="noStrike" baseline="-30000">
                <a:solidFill>
                  <a:srgbClr val="0000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0000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419720" cy="2209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952880" y="1117440"/>
            <a:ext cx="3810240" cy="254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362320" y="4038480"/>
            <a:ext cx="3809880" cy="2540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Tahoma"/>
                <a:ea typeface="Arial"/>
              </a:rPr>
              <a:t>pH раствор</a:t>
            </a:r>
            <a:r>
              <a:rPr b="1" lang="ru-RU" sz="4800" spc="-1" strike="noStrike">
                <a:solidFill>
                  <a:srgbClr val="6600ff"/>
                </a:solidFill>
                <a:latin typeface="Tahoma"/>
              </a:rPr>
              <a:t>ов солей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2590920"/>
            <a:ext cx="9142920" cy="1142280"/>
            <a:chOff x="0" y="2590920"/>
            <a:chExt cx="9142920" cy="1142280"/>
          </a:xfrm>
        </p:grpSpPr>
        <p:sp>
          <p:nvSpPr>
            <p:cNvPr id="113" name=""/>
            <p:cNvSpPr/>
            <p:nvPr/>
          </p:nvSpPr>
          <p:spPr>
            <a:xfrm>
              <a:off x="0" y="2606400"/>
              <a:ext cx="1381320" cy="10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811440" y="2590920"/>
              <a:ext cx="2686680" cy="1142280"/>
              <a:chOff x="811440" y="2590920"/>
              <a:chExt cx="2686680" cy="1142280"/>
            </a:xfrm>
          </p:grpSpPr>
          <p:sp>
            <p:nvSpPr>
              <p:cNvPr id="115" name=""/>
              <p:cNvSpPr/>
              <p:nvPr/>
            </p:nvSpPr>
            <p:spPr>
              <a:xfrm>
                <a:off x="811440" y="2590920"/>
                <a:ext cx="2686680" cy="1142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380960" y="2606400"/>
                <a:ext cx="1546200" cy="1046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красны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498480" y="2590920"/>
              <a:ext cx="3301920" cy="1142280"/>
              <a:chOff x="3498480" y="2590920"/>
              <a:chExt cx="3301920" cy="1142280"/>
            </a:xfrm>
          </p:grpSpPr>
          <p:sp>
            <p:nvSpPr>
              <p:cNvPr id="118" name=""/>
              <p:cNvSpPr/>
              <p:nvPr/>
            </p:nvSpPr>
            <p:spPr>
              <a:xfrm>
                <a:off x="3498480" y="2590920"/>
                <a:ext cx="3301920" cy="114228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68720" y="2606400"/>
                <a:ext cx="2160720" cy="10465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фиолетовы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801120" y="2590920"/>
              <a:ext cx="2341800" cy="1142280"/>
              <a:chOff x="6801120" y="2590920"/>
              <a:chExt cx="2341800" cy="1142280"/>
            </a:xfrm>
          </p:grpSpPr>
          <p:sp>
            <p:nvSpPr>
              <p:cNvPr id="121" name=""/>
              <p:cNvSpPr/>
              <p:nvPr/>
            </p:nvSpPr>
            <p:spPr>
              <a:xfrm>
                <a:off x="6801120" y="2590920"/>
                <a:ext cx="2341800" cy="114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371360" y="2606400"/>
                <a:ext cx="1200600" cy="1046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сини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2514600" y="4038480"/>
            <a:ext cx="6628320" cy="1142280"/>
            <a:chOff x="2514600" y="4038480"/>
            <a:chExt cx="6628320" cy="1142280"/>
          </a:xfrm>
        </p:grpSpPr>
        <p:sp>
          <p:nvSpPr>
            <p:cNvPr id="124" name=""/>
            <p:cNvSpPr/>
            <p:nvPr/>
          </p:nvSpPr>
          <p:spPr>
            <a:xfrm>
              <a:off x="2514600" y="4053960"/>
              <a:ext cx="2047680" cy="10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есцветны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62280" y="4053960"/>
              <a:ext cx="2048400" cy="10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6044040" y="4038480"/>
              <a:ext cx="3098880" cy="1142280"/>
              <a:chOff x="6044040" y="4038480"/>
              <a:chExt cx="3098880" cy="1142280"/>
            </a:xfrm>
          </p:grpSpPr>
          <p:sp>
            <p:nvSpPr>
              <p:cNvPr id="127" name=""/>
              <p:cNvSpPr/>
              <p:nvPr/>
            </p:nvSpPr>
            <p:spPr>
              <a:xfrm>
                <a:off x="6044040" y="4038480"/>
                <a:ext cx="3098880" cy="11422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10320" y="4053960"/>
                <a:ext cx="1965960" cy="1046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малиновы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838080" y="5486400"/>
            <a:ext cx="8304840" cy="1065960"/>
            <a:chOff x="838080" y="5486400"/>
            <a:chExt cx="8304840" cy="1065960"/>
          </a:xfrm>
        </p:grpSpPr>
        <p:grpSp>
          <p:nvGrpSpPr>
            <p:cNvPr id="130" name=""/>
            <p:cNvGrpSpPr/>
            <p:nvPr/>
          </p:nvGrpSpPr>
          <p:grpSpPr>
            <a:xfrm>
              <a:off x="838080" y="5486400"/>
              <a:ext cx="2674440" cy="1065960"/>
              <a:chOff x="838080" y="5486400"/>
              <a:chExt cx="2674440" cy="1065960"/>
            </a:xfrm>
          </p:grpSpPr>
          <p:sp>
            <p:nvSpPr>
              <p:cNvPr id="131" name=""/>
              <p:cNvSpPr/>
              <p:nvPr/>
            </p:nvSpPr>
            <p:spPr>
              <a:xfrm>
                <a:off x="838080" y="5486400"/>
                <a:ext cx="2674440" cy="106596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02560" y="5500800"/>
                <a:ext cx="1545840" cy="9763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розовы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3512880" y="5486400"/>
              <a:ext cx="3070800" cy="1065960"/>
              <a:chOff x="3512880" y="5486400"/>
              <a:chExt cx="3070800" cy="1065960"/>
            </a:xfrm>
          </p:grpSpPr>
          <p:sp>
            <p:nvSpPr>
              <p:cNvPr id="134" name=""/>
              <p:cNvSpPr/>
              <p:nvPr/>
            </p:nvSpPr>
            <p:spPr>
              <a:xfrm>
                <a:off x="3512880" y="5486400"/>
                <a:ext cx="3070800" cy="10659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77360" y="5500800"/>
                <a:ext cx="1941120" cy="97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анжевы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6584400" y="5486400"/>
              <a:ext cx="2558520" cy="1065960"/>
              <a:chOff x="6584400" y="5486400"/>
              <a:chExt cx="2558520" cy="1065960"/>
            </a:xfrm>
          </p:grpSpPr>
          <p:sp>
            <p:nvSpPr>
              <p:cNvPr id="137" name=""/>
              <p:cNvSpPr/>
              <p:nvPr/>
            </p:nvSpPr>
            <p:spPr>
              <a:xfrm>
                <a:off x="6584400" y="5486400"/>
                <a:ext cx="2558520" cy="1065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148160" y="5500800"/>
                <a:ext cx="1429920" cy="9763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желты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228600" y="3409920"/>
            <a:ext cx="14479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ahoma"/>
              </a:rPr>
              <a:t>Лакм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46483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Фенолфтале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6172200"/>
            <a:ext cx="23623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етилоран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1219320"/>
            <a:ext cx="13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Кисл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  <a:ea typeface="Arial"/>
              </a:rPr>
              <a:t> 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  <a:ea typeface="Arial"/>
              </a:rPr>
              <a:t>рН &lt;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121932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ahoma"/>
              </a:rPr>
              <a:t>Нейтра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  <a:ea typeface="Arial"/>
              </a:rPr>
              <a:t>рН 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10280" y="121932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Щелоч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  <a:ea typeface="Arial"/>
              </a:rPr>
              <a:t>рН &gt;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/>
          </p:cNvPr>
          <p:cNvSpPr/>
          <p:nvPr/>
        </p:nvSpPr>
        <p:spPr>
          <a:xfrm>
            <a:off x="228600" y="1143000"/>
            <a:ext cx="685800" cy="519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3T15:00:14Z</dcterms:created>
  <dc:creator>Arkady</dc:creator>
  <dc:description/>
  <dc:language>en-US</dc:language>
  <cp:lastModifiedBy>User</cp:lastModifiedBy>
  <dcterms:modified xsi:type="dcterms:W3CDTF">2010-10-09T18:19:21Z</dcterms:modified>
  <cp:revision>11</cp:revision>
  <dc:subject/>
  <dc:title>Соли</dc:title>
</cp:coreProperties>
</file>